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F25-6277-4EC1-ACA9-404EDBEA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3BF-B322-40CA-9F5C-5EAB0DB8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BD1-D3A0-426F-B134-FEDF7B74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E97-7C71-46F6-9EED-4530461B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E887-D334-4D1D-97FE-8D442A49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7A90-AC8A-4144-9C27-79D1C58C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EE99-3F8B-47D1-8E2F-532765E8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9E4E-AC97-4332-A2C7-47875942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D1F2-AB6F-4E2D-AAEB-4D8F5DCE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87CC-C443-49A5-8F4E-929E40F7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94AF-81DF-4915-BD5F-F051AF7A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1D4-177C-4476-BEE5-4F289B14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CF70-3BE7-4187-BE3D-D001BB58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1731-6270-4AA2-A8DC-D1E7098E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A6CD-90D1-4D43-A4B8-96FEA29A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AE03-B6FC-4AF4-BC73-7C0B89B3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B4D0-AFA1-467F-AF28-7A791535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B5B-EC61-4F09-9096-77F57B67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D67-FCE7-49DF-92F9-17CA60AB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BF3-2B1B-433D-A91E-9A06F2E5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6E5-35D2-44B9-984B-9E7C8469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1B3-1C58-450E-81A8-531B36DF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794-4D53-4144-B107-D30793EF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130-F0A3-40F1-907A-2337C32F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28F0-E5A4-425B-8A0D-ED9D9C9C4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73B5-9BF6-4E2E-98B0-7C48D0BCE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icrosoft Word for the Mac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cia Sharkey &amp; Nick Koz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.A.S.E. Assistive Techn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AUTO SUMMARIZ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text to read on your computer like an article from the internet, then you can use AutoSummarize to help pick out the most important inform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ools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ummar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 of 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ew document will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document will still be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8195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READABILITY STATISTIC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completing a spelling and/or grammar check, a “Readability” analysis will appea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952880" y="3124080"/>
            <a:ext cx="305280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TEXT TO SPEECH (TTS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View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ool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“Speech”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loating palette will 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needs to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“Speak Selection” to hear text being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2590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pports for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reating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rag and Drop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nd and Re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ustomizing Tools 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ext to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REATING TABL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“Table”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oll down to “Inse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“T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able size (columns and row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733920" y="3809880"/>
            <a:ext cx="20556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RAG AND DROP TEX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ext to be 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arrow over select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mouse click, hold and drag to desired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IND AND REPLA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“Edit”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pro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E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pro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168360" cy="1533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3200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USTOMIZING TOOLBA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to customize your toolbar to include features that you often use or feel are important to have immediate access to, you 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“View” tab and scroll down to Tool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“Customize Toolbars/Menus”  all the way at the bottom, follow prompts to create a customized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851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EXT TO SPEECH (TTS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the View 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ol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“Speech”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loating palette will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needs to be highligh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“Speak Selection” to hear text being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t is important to note that the TTS feature can be used to support both reading and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2590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pports for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Study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ighlight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pports for </a:t>
            </a: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"/>
              </a:rPr>
              <a:t>Color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"/>
              </a:rPr>
              <a:t>Font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"/>
              </a:rPr>
              <a:t>Tex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"/>
              </a:rPr>
              <a:t>Copy Text into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"/>
              </a:rPr>
              <a:t>Look Up/Trans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"/>
              </a:rPr>
              <a:t>Reading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"/>
              </a:rPr>
              <a:t>Auto Summar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"/>
              </a:rPr>
              <a:t>Text to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IGHLIGHT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“View”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oll down to Tool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“Formatt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8572320" cy="558720"/>
          </a:xfrm>
          <a:prstGeom prst="rect">
            <a:avLst/>
          </a:prstGeom>
          <a:ln w="0">
            <a:noFill/>
          </a:ln>
        </p:spPr>
      </p:pic>
      <p:cxnSp>
        <p:nvCxnSpPr>
          <p:cNvPr id="260" name=""/>
          <p:cNvCxnSpPr/>
          <p:nvPr/>
        </p:nvCxnSpPr>
        <p:spPr>
          <a:xfrm flipV="1">
            <a:off x="6172200" y="4342680"/>
            <a:ext cx="2013840" cy="1639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COLOR BACKGROUND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“Format ta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dith Sweeney reference regarding color backgrounds for reading suppo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Judith Sweeney handou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and Technology:  Using Color On and Off the Computer with Students with Disabilit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FONT C</a:t>
            </a:r>
            <a:r>
              <a:rPr b="0" lang="en-US" sz="4400" spc="-1" strike="noStrike">
                <a:solidFill>
                  <a:srgbClr val="9a0000"/>
                </a:solidFill>
                <a:latin typeface="ヒラギノ角ゴ ProN W3"/>
              </a:rPr>
              <a:t>OLOR</a:t>
            </a:r>
            <a:r>
              <a:rPr b="0" lang="en-US" sz="4400" spc="-1" strike="noStrike">
                <a:solidFill>
                  <a:srgbClr val="003366"/>
                </a:solidFill>
                <a:latin typeface="ヒラギノ角ゴ ProN W3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“Format Ta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F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desired Font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TEXT SIZ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“Format ta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F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Font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Fo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COPY TEXT into WORD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desired article o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“printable” version of the text (this is applicable if you are printing from the inter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py 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xt by press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Command A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go to “Edit Tab” and Select ALL or highlight desired text and cop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Command C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go to “Edit Tab” and Copy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paste text into word documen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Command V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go to “Edit Tab” and Past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LOOK UP/TRANSLAT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r can look up a definition or translate a wor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 desired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cursor somewhere within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click the mouse to bring up a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“Look Up” for dictionary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“Translate” to translate a word or highlighted portion of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lose the Research task pane, click on the X in the upper right top of the task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hange </a:t>
            </a:r>
            <a:r>
              <a:rPr b="0" lang="en-US" sz="4400" spc="-1" strike="noStrike">
                <a:solidFill>
                  <a:srgbClr val="9a0000"/>
                </a:solidFill>
                <a:latin typeface="Arial"/>
              </a:rPr>
              <a:t>READING VIEW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the “view” that the text is presented in turn your attention to the lower left hand corner of the scr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options are availab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Lay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2171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2:12:39Z</dcterms:created>
  <dc:creator>CCSD89</dc:creator>
  <dc:description/>
  <dc:language>en-US</dc:language>
  <cp:lastModifiedBy>CCSD89</cp:lastModifiedBy>
  <dcterms:modified xsi:type="dcterms:W3CDTF">2011-01-12T04:15:52Z</dcterms:modified>
  <cp:revision>1</cp:revision>
  <dc:subject/>
  <dc:title>Microsoft Word for the Mac</dc:title>
</cp:coreProperties>
</file>